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B15D-1CCD-46C1-8917-905CDDC9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3F6E-55DD-4C2E-A093-2CBCA8FC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00F8-4762-42D2-B30A-D7EF89A3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CEF2-C8F1-498F-8189-51188D89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9A3B-86C9-47D3-BA19-63D138A2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62A-94E0-4796-8B2E-F6917ACF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57BA-B291-4B2E-B465-914EBE6E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3406-1717-42E4-A9C2-C8FFF03D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66EE-BFBE-4F62-9554-7498B4AB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EC53-3A96-4370-B14B-258E59D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9279-D23E-4937-80F1-8D52D2C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A79F-B9BB-4BD4-B832-88C8ABB9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6E48-9D64-4D71-807E-71EEE87B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2221-CCF2-437D-99E9-3CB925EE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AE28-55CE-466E-B950-4097667A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1264-E3E0-436B-9E38-DC903011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6B70-DD04-4E21-ADE7-9D70B9FA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99FA-4D2E-4175-B023-FD8DEFE9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7986-F78A-498B-841D-3D5A53BF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CE6A-0D9D-43E2-AD2C-803E5253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74FE-0B2D-47CE-A78E-D9CC2827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7E2D-BFAC-4D19-8B93-D24AF75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B59A-B774-4E00-9060-C3AE302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0364-4536-4F11-A2EC-FA5B7FF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4EF-2399-4969-9EBF-C65907BA31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B7FF-AA1C-409A-A2DC-EBA8AE393B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d/Thomas_Keene_in_Macbeth_1884_Wikipedia_crop.pn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274.photobucket.com/albums/jj270/Binachan/masksm.gif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CBETH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ory Of Some Guy Or Lady IDK BY:BLAKE  OR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129852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29052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37, when Laurence Olivier took on the role of Macbeth, a 25 pound stage weight crashed within an inch of him, and his sword which broke onstage flew into the audience and hit a man who later suffered a heart attack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ning with its first performance, in 1606, Dear Will himself was forced to play Lady Macbeth when Hal Berridge, the boy designated to play the lady with a peculiar notion of hospitality, became inexplicably feverish and died. Moreover, the bloody play so displeased King James I that he banned it for five year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Lady Macbeth, Sarah Siddons was nearly ravaged by a disapproving audience in 1775; Sybil Thorndike was almost strangled by a burly actor in 1926; Diana Wynyard sleepwalked off the rostrum in 1948, falling down 15 fee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1934, British actor Malcolm Keen turned mute onstage, and his replacement, Alister Sim, like Hal Berridge before him, developed a high fever and had to be hospitaliz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estructible Charlton Heston, in an outdoor production in Bermuda in 1953, suffered severe burns in his groin and leg area from tights that were accidentally soaked in kerosen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ctor's strike felled Rip Torn's 1970 production in New York City; two fires and seven robberies plagued the 1971 version starring David Leary; in the 1981 production at Lincoln Center, J. Kenneth Campbell, who played Macduff, was mugged soon after the play's opening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603/603_67575763_243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Karen Sucks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is a drug addict fairy loving son of a witch I don’t like her at 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iography On Gustav Freyta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erman Dramatist and Novel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n July 13,1816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d April 30,18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ublish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23 By William Shakespea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word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long edged piece of metal used in many civilizations throughout the world, primarily as a cutting or thrusting weapon and occasionally for clubb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LightWave"/>
              </a:rPr>
              <a:t> </a:t>
            </a:r>
            <a:r>
              <a:rPr b="0" lang="en-US" sz="5400" spc="-1" strike="noStrike">
                <a:solidFill>
                  <a:srgbClr val="ffffcc"/>
                </a:solidFill>
                <a:latin typeface="LightWave"/>
              </a:rPr>
              <a:t>Freytag’s Triangle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upid Triangle With 3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Freytag's triangle"/>
          <p:cNvPicPr/>
          <p:nvPr/>
        </p:nvPicPr>
        <p:blipFill>
          <a:blip r:embed="rId1"/>
          <a:stretch/>
        </p:blipFill>
        <p:spPr>
          <a:xfrm>
            <a:off x="1295280" y="2362320"/>
            <a:ext cx="5096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King Duncan/Scotla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ictim of a well-plotted regicide in a power grab by his trusted captain and cousin Macbe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eytag’s Boo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his book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chnique of the Dra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63), The German critic Gustav Freytag proposed a method of analyzing plots derived from Aristotle's concept of unity of action that came to be known as Freytag's Triangle or Freytag's Pyramid. In the illustration above, I have borrowed from both critics to present a graphic that can be employed to analyze the structure and unity of a narrative's pl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illiam Shakespea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n April 26,15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d April 23, 16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 Poet and playwright, widely regarded as the greatest writer in the English language and the world'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rse Of Macbe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its 1849 performance at New York's Astor Place, a riot broke out in which 31 people were trampled to dea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9:57:14Z</dcterms:created>
  <dc:creator> </dc:creator>
  <dc:description/>
  <dc:language>en-US</dc:language>
  <cp:lastModifiedBy> </cp:lastModifiedBy>
  <dcterms:modified xsi:type="dcterms:W3CDTF">2010-02-05T20:30:29Z</dcterms:modified>
  <cp:revision>9</cp:revision>
  <dc:subject/>
  <dc:title>MACBETH  </dc:title>
</cp:coreProperties>
</file>